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F15-89D2-4D8F-8470-686A1249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9EF-EA9A-4837-A89C-4E3F44C1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8544C-A28E-4767-AE62-5AE43C6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3CCAD-3916-4B72-BF4A-8967A3C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3AE86-33F6-49B0-AE5D-8A48C273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5805B-A698-4ABE-819B-10BBF73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2F287-C12C-4021-BB27-7B84CB82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611EE-E1DE-4484-A7DB-F2EED62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14DD6-6EBC-4CFC-A340-CAFFBC63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D74C4-5F92-44CB-9809-400085A1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E3888-36B1-4B5B-AC34-634C4202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E4892-88C3-4B5E-B8D7-2C97AC8B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25C-8CCB-4438-8B55-F411C195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75598-3251-4AF4-9BBA-582255E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6FDA8-E00F-4100-93BD-912F834D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AA1AE-2542-4907-A36D-11E5A4B8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7F3B9-F036-46F3-A334-5998E32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CB25F-1F3E-405B-8882-EB128315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CE6A2-DF4E-40AB-9393-1A5AB3A7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EEE48-2B09-43C0-A50A-1EFE28D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131F2-BB79-4360-9163-519EB223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DD434-08B4-4DFD-A8AE-A53974AF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E48C9-3457-4C5A-B857-7EFBFC36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BF2-28AB-4140-9E2A-EB159FAA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DE0C9-29C8-4FA7-B0AE-2CE21F36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43D23-DA86-467C-92E1-55CB25E2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FC162-2D35-49FD-95C3-B75F2A57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3523C-44DC-471E-B2A7-4A8F6028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2991F-2CAB-4B4E-ADA7-9336DE5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873FD-FDE2-4FA4-9F94-307FE360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B2DD-998E-4A50-B6F2-47E2B243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96CC-A411-402D-966B-8BD09D11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F6A90-DB8E-4333-BE77-E748B47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B25E-4731-4EB8-99A3-3320F6F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D467-C849-4780-9067-42D26836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5BA33-DEE4-49D4-AB07-B04CAB8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F8EF-1490-4D4D-BC21-FEF94800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81851-4171-4394-8019-1B580191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CEC41-52D3-4B70-822A-9BDB9DFF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496EF-54F3-400F-96B1-1E8FA62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EA488-960B-409F-A988-2AE72E06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85AB1-AAB1-41DD-96B7-40445D79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B929F-622A-4693-ADC4-71DD46A7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A6BCD-D9C8-49DB-8CA9-22E94212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6E8CC-7AF9-48C7-BC70-6A7A7BB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A595-D6F1-496F-BDC4-C6690161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9230B-DCFF-432D-BCE5-54BEBBD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850E6-87EE-42AC-92CE-8B9940A9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C778A-81AE-4ECA-9E54-A2DC3B1C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FD30-037B-4C6C-9972-9C0F0152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D6245-CC5B-43D9-9B0E-1DE9B92B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6A06-C806-4FDD-95B9-3D020128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95B9-1F60-4336-A6C4-F03B62BD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BD92-1EF3-4218-B251-2D3F51FC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61D3-9702-4388-84EA-D215B129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F169-87E0-4E15-A263-B15BA1F9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35E-B128-4318-BF0A-B7BB0128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FF5C-7BFD-4CEB-85C7-8904BF7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02DA-A522-4704-B58C-5E414AF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3BC0-32A7-4E74-9FA8-7F809F13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54D-9C41-4BE7-8F82-45CB6F1E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CC36-9589-4A49-A621-0E19D99F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4A0A6-1113-4EBE-982C-FAE13B43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61E42-7CC4-43AC-B847-319F312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13B38-3947-4211-872A-81933389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0853D-21EC-430D-83EF-2EDD098E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FB0E0-3068-4A11-8E4B-34E7E2B7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298-1B86-45D0-9BB4-9F66CC75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9A7D4-5184-401B-BC7F-6870943B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9AC3A-E87B-4D54-A2F7-76DDAA51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85809-E1BE-43B4-8EB4-F34CCBF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B8DFF-F561-4C9C-820F-6DABF20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8A56F-48A8-4F17-A2B5-57D6A73B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529E4-0B1D-4404-BAEA-2BC01C8E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2C83B-9720-4DB9-B9E6-DEF3105F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E36A-4874-4844-BACA-F415800D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01D4A-AC75-4E3A-A6BE-79BCCE33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9B8C-D943-4890-ADE5-03A4FBB4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6E1-3F9A-4618-9688-4293098B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629A-A2BE-456C-8C48-529139AA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8D83-12DE-4A4F-B663-DA8C823C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28DB-5598-4570-96E5-10DEE32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10605-221A-4FC9-8C49-29FF63D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969B-6D7A-44F8-A587-64BAE9B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01B5-B8D6-4E3B-A73A-ACF0FFB9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61DA-55AA-4CD3-8031-05FBBFC5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245E-A8E6-4935-9D0B-EF7FE3A1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7535-03E2-4D83-959A-B943A612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A0BD3-A0B9-41E9-94EA-26D75436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9BC-01DD-44D5-A487-94633FC5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2042-17E4-47FA-9A61-C7F98516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476A-7C27-4A19-8E3C-945BB015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3CE6-F83B-4B90-BD5D-CE456A9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3E6A9-9084-4891-AA3E-368A690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5B41-600D-4194-BDA1-6832336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F734-B23F-4FCB-98B1-AB212301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1635-8EFB-4F0E-85F5-84A21B1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1199E-6E23-40BD-B314-942AE9C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DE9A-98E0-4663-A239-5C5E000C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4CA26-6385-47CC-9D6E-AACDCE48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2E1-89AD-486B-9EAF-C54CC230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1875-DFEF-4F38-AB6E-1AEE35F7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E061D-6220-4FE2-A0E8-4C6A353D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61494-EC76-418E-932F-CBB28AD3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4B8C2-3440-4F13-AEDE-A57680BE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A2C3-395F-4856-A834-01ECC8D8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066D-0761-4BE4-9507-0664D055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89CF-C3CB-4ADA-9F66-4DE56FE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76490-CE4C-44F0-8654-479FF1E5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0936-CFB9-4103-99C0-1FD7C49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BE52-5EE7-426F-8FB8-A4EE011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9D6-A535-4849-AA11-36A2290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B2E2-985D-4C68-A81F-D836C0B0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D641-7CCA-4E6F-B228-6EF7BC81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A0976-D6A6-4F7C-9CED-637A0B9F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9C86E-86D2-4C03-88F4-78DAF02B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9107-3AB0-4660-9835-00B4588E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EC09F-7712-4B0E-AF89-A309B4B9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160E-D593-4C15-8CC3-9B8EA2CA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7985-7DBF-4BEA-AB2C-04025729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8002-8A88-40DE-8034-F7454C0B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DDB78-E0AA-48AC-A9CF-226C063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A64-9642-4A49-BB95-268FE98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BEEB6-449D-4405-8478-9C86701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1F093-2384-4A0C-8F8E-348C26CE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2E7A-99C4-45B2-8E5C-6247D03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E05C-B3C7-463B-AA1F-F78B69A1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E78E4-BCF8-43F6-9242-89FBEAA7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1891-E308-448D-B4B6-EC9345AA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3AA33-8F2C-4C6B-881A-9E9A593B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590D-2044-461D-A4DE-6B53288A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59237-D18D-488C-B302-69266EEE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6D067-6901-4E0D-862B-01E96649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88E-3761-49A6-85F5-E9A7122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8EEFD-43B1-466D-82E6-FD01BE59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3D292-EB51-4496-B883-B3A45AB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10AD-E85C-4FF2-95BE-2AA7F24E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B0AE-4DF6-439A-B8C2-26ABB80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A72DB-357A-436D-8315-2AE195F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720C-ADCF-45C0-B50A-0AE27DC5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9400-1880-4ADB-BC1A-D16DA104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1805B-67F8-49E7-A8D4-41318BD3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20E8E-1E36-4736-BEED-D3F1D57C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54AD6-806C-4EC7-8192-5EB2DAD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09.xml"/><Relationship Id="rId25" Type="http://schemas.openxmlformats.org/officeDocument/2006/relationships/slideLayout" Target="../slideLayouts/slideLayout110.xml"/><Relationship Id="rId26" Type="http://schemas.openxmlformats.org/officeDocument/2006/relationships/slideLayout" Target="../slideLayouts/slideLayout111.xml"/><Relationship Id="rId27" Type="http://schemas.openxmlformats.org/officeDocument/2006/relationships/slideLayout" Target="../slideLayouts/slideLayout112.xml"/><Relationship Id="rId28" Type="http://schemas.openxmlformats.org/officeDocument/2006/relationships/slideLayout" Target="../slideLayouts/slideLayout113.xml"/><Relationship Id="rId29" Type="http://schemas.openxmlformats.org/officeDocument/2006/relationships/slideLayout" Target="../slideLayouts/slideLayout114.xml"/><Relationship Id="rId30" Type="http://schemas.openxmlformats.org/officeDocument/2006/relationships/slideLayout" Target="../slideLayouts/slideLayout115.xml"/><Relationship Id="rId31" Type="http://schemas.openxmlformats.org/officeDocument/2006/relationships/slideLayout" Target="../slideLayouts/slideLayout116.xml"/><Relationship Id="rId32" Type="http://schemas.openxmlformats.org/officeDocument/2006/relationships/slideLayout" Target="../slideLayouts/slideLayout117.xml"/><Relationship Id="rId33" Type="http://schemas.openxmlformats.org/officeDocument/2006/relationships/slideLayout" Target="../slideLayouts/slideLayout118.xml"/><Relationship Id="rId34" Type="http://schemas.openxmlformats.org/officeDocument/2006/relationships/slideLayout" Target="../slideLayouts/slideLayout119.xml"/><Relationship Id="rId3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21.xml"/><Relationship Id="rId25" Type="http://schemas.openxmlformats.org/officeDocument/2006/relationships/slideLayout" Target="../slideLayouts/slideLayout122.xml"/><Relationship Id="rId26" Type="http://schemas.openxmlformats.org/officeDocument/2006/relationships/slideLayout" Target="../slideLayouts/slideLayout123.xml"/><Relationship Id="rId27" Type="http://schemas.openxmlformats.org/officeDocument/2006/relationships/slideLayout" Target="../slideLayouts/slideLayout124.xml"/><Relationship Id="rId28" Type="http://schemas.openxmlformats.org/officeDocument/2006/relationships/slideLayout" Target="../slideLayouts/slideLayout125.xml"/><Relationship Id="rId29" Type="http://schemas.openxmlformats.org/officeDocument/2006/relationships/slideLayout" Target="../slideLayouts/slideLayout126.xml"/><Relationship Id="rId30" Type="http://schemas.openxmlformats.org/officeDocument/2006/relationships/slideLayout" Target="../slideLayouts/slideLayout127.xml"/><Relationship Id="rId31" Type="http://schemas.openxmlformats.org/officeDocument/2006/relationships/slideLayout" Target="../slideLayouts/slideLayout128.xml"/><Relationship Id="rId32" Type="http://schemas.openxmlformats.org/officeDocument/2006/relationships/slideLayout" Target="../slideLayouts/slideLayout129.xml"/><Relationship Id="rId33" Type="http://schemas.openxmlformats.org/officeDocument/2006/relationships/slideLayout" Target="../slideLayouts/slideLayout130.xml"/><Relationship Id="rId34" Type="http://schemas.openxmlformats.org/officeDocument/2006/relationships/slideLayout" Target="../slideLayouts/slideLayout131.xml"/><Relationship Id="rId3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4.png"/><Relationship Id="rId32" Type="http://schemas.openxmlformats.org/officeDocument/2006/relationships/slideLayout" Target="../slideLayouts/slideLayout133.xml"/><Relationship Id="rId33" Type="http://schemas.openxmlformats.org/officeDocument/2006/relationships/slideLayout" Target="../slideLayouts/slideLayout134.xml"/><Relationship Id="rId34" Type="http://schemas.openxmlformats.org/officeDocument/2006/relationships/slideLayout" Target="../slideLayouts/slideLayout135.xml"/><Relationship Id="rId35" Type="http://schemas.openxmlformats.org/officeDocument/2006/relationships/slideLayout" Target="../slideLayouts/slideLayout136.xml"/><Relationship Id="rId36" Type="http://schemas.openxmlformats.org/officeDocument/2006/relationships/slideLayout" Target="../slideLayouts/slideLayout137.xml"/><Relationship Id="rId37" Type="http://schemas.openxmlformats.org/officeDocument/2006/relationships/slideLayout" Target="../slideLayouts/slideLayout138.xml"/><Relationship Id="rId38" Type="http://schemas.openxmlformats.org/officeDocument/2006/relationships/slideLayout" Target="../slideLayouts/slideLayout139.xml"/><Relationship Id="rId39" Type="http://schemas.openxmlformats.org/officeDocument/2006/relationships/slideLayout" Target="../slideLayouts/slideLayout140.xml"/><Relationship Id="rId40" Type="http://schemas.openxmlformats.org/officeDocument/2006/relationships/slideLayout" Target="../slideLayouts/slideLayout141.xml"/><Relationship Id="rId41" Type="http://schemas.openxmlformats.org/officeDocument/2006/relationships/slideLayout" Target="../slideLayouts/slideLayout142.xml"/><Relationship Id="rId42" Type="http://schemas.openxmlformats.org/officeDocument/2006/relationships/slideLayout" Target="../slideLayouts/slideLayout143.xml"/><Relationship Id="rId4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5E9A-0EB6-494D-9722-6ABB2007F045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26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27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3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434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7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444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6301-8572-424C-88E4-483A4DB2177D}" type="datetime">
              <a:rPr b="0" lang="en-US" sz="9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7BB-3B09-45D8-A8AF-7B25C8B91EEA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4"/>
    <p:sldLayoutId id="2147483767" r:id="rId25"/>
    <p:sldLayoutId id="2147483768" r:id="rId26"/>
    <p:sldLayoutId id="2147483769" r:id="rId27"/>
    <p:sldLayoutId id="2147483770" r:id="rId28"/>
    <p:sldLayoutId id="2147483771" r:id="rId29"/>
    <p:sldLayoutId id="2147483772" r:id="rId30"/>
    <p:sldLayoutId id="2147483773" r:id="rId31"/>
    <p:sldLayoutId id="2147483774" r:id="rId32"/>
    <p:sldLayoutId id="2147483775" r:id="rId33"/>
    <p:sldLayoutId id="2147483776" r:id="rId34"/>
    <p:sldLayoutId id="2147483777" r:id="rId3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94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95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1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02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1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512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CF9A-A6FE-4980-9DB7-5BE4279F385F}" type="datetime">
              <a:rPr b="0" lang="en-US" sz="9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B53B-FA70-46DE-A1B3-5DCC8AF0524D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4"/>
    <p:sldLayoutId id="2147483780" r:id="rId25"/>
    <p:sldLayoutId id="2147483781" r:id="rId26"/>
    <p:sldLayoutId id="2147483782" r:id="rId27"/>
    <p:sldLayoutId id="2147483783" r:id="rId28"/>
    <p:sldLayoutId id="2147483784" r:id="rId29"/>
    <p:sldLayoutId id="2147483785" r:id="rId30"/>
    <p:sldLayoutId id="2147483786" r:id="rId31"/>
    <p:sldLayoutId id="2147483787" r:id="rId32"/>
    <p:sldLayoutId id="2147483788" r:id="rId33"/>
    <p:sldLayoutId id="2147483789" r:id="rId34"/>
    <p:sldLayoutId id="2147483790" r:id="rId3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5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5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5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8" name="Group 120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589" name="Oval 12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590" name="Oval 12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Oval 12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593" name="Oval 12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Oval 123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596" name="Oval 123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Oval 124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599" name="Oval 124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Oval 126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602" name="Oval 126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Oval 127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605" name="Oval 127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Oval 128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608" name="Oval 12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Oval 129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611" name="Oval 129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44CB-156E-4373-B512-32F81C737122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2"/>
    <p:sldLayoutId id="2147483793" r:id="rId33"/>
    <p:sldLayoutId id="2147483794" r:id="rId34"/>
    <p:sldLayoutId id="2147483795" r:id="rId35"/>
    <p:sldLayoutId id="2147483796" r:id="rId36"/>
    <p:sldLayoutId id="2147483797" r:id="rId37"/>
    <p:sldLayoutId id="2147483798" r:id="rId38"/>
    <p:sldLayoutId id="2147483799" r:id="rId39"/>
    <p:sldLayoutId id="2147483800" r:id="rId40"/>
    <p:sldLayoutId id="2147483801" r:id="rId41"/>
    <p:sldLayoutId id="2147483802" r:id="rId42"/>
    <p:sldLayoutId id="2147483803" r:id="rId4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5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6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3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63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71BD-91B9-4FA3-8ACD-C95A73DC8113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EBE-FEF3-4350-A822-673687BAE99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8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808-D6F3-4B1D-8266-A47BE1979E23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9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3B25-FDB6-4EA3-930B-3FD00891B5E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821F-228B-458F-B56E-A5C4E433046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AF75-52F0-48C6-93DE-4282CDE2E13A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AA00-C2C9-4162-960A-4DFBA4D9827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D00B-5B55-48C9-A91D-69A4C3F244B4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37D6-60D6-47FA-90A4-AC3D5A8DB82B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F19-7EF5-4DD8-8B03-C4FBFFF06A27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0000"/>
                </a:solidFill>
                <a:latin typeface="Calisto MT"/>
              </a:rPr>
              <a:t>Action Research </a:t>
            </a:r>
            <a:br>
              <a:rPr sz="3700"/>
            </a:br>
            <a:r>
              <a:rPr b="0" lang="en-US" sz="3700" spc="-1" strike="noStrike">
                <a:solidFill>
                  <a:srgbClr val="990000"/>
                </a:solidFill>
                <a:latin typeface="Calisto MT"/>
              </a:rPr>
              <a:t>April 30, 2012</a:t>
            </a:r>
            <a:endParaRPr b="0" lang="en-US" sz="3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440" y="2209680"/>
            <a:ext cx="7799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sto MT"/>
              </a:rPr>
              <a:t>Final Report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sto MT"/>
              </a:rPr>
              <a:t>&amp;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sto MT"/>
              </a:rPr>
              <a:t>Presentation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Referenc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itations match reference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PA style and error fre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arity of Writing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port is well written 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Logical flow of idea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Proper grammar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orrect spelling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Effective sentence structur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port is well organiz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lear headings and subheadings, etc.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Other Considera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Identities have been protected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Tone is professionally respectful to colleague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Report reflects genuine interest and focuses on issues that would be of interest to other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Either narrative style of telling a story, or more formal style of scientific research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Presentation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Audience &amp; Purpos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o are the audiences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are our purposes in presenting to this audience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do we wish our audiences to know or understand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outcomes do we wish to achieve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Introduction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Focus of the project and problem statement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Participants involved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Purpose and desired outcome for the presentatio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Body of the Presentatio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happened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Key issues from the research: what has been discovered, what is problematic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Implications: what needs to be done, what are the next action step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Review categories and title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Review of major points covered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Visual/Audio Material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410080" y="2438280"/>
            <a:ext cx="289584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List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Figure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Audio recor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Video recor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9" name="Content Placeholder 2"/>
          <p:cNvSpPr/>
          <p:nvPr/>
        </p:nvSpPr>
        <p:spPr>
          <a:xfrm>
            <a:off x="2438280" y="2438280"/>
            <a:ext cx="2895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r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Interactive Presentation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Allow for dyads or small group work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Allow for questions, comments, clarification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troduc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Context and background about the research site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Characteristics of the staff and students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Focus of the research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Who are you and what are you studying?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Overview: clearly describes purpose of the project, context, interventions, objectives, goals, assumptions, and reflections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Performance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286000" y="2133720"/>
            <a:ext cx="619776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Drama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Role play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So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Poetry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Dance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Visual artwork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Electronic media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sto MT"/>
              </a:rPr>
              <a:t>Description of Research Process</a:t>
            </a:r>
            <a:endParaRPr b="0" lang="en-US" sz="4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2286000" y="2133720"/>
            <a:ext cx="61977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What did you do?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Description of the study is: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25600" indent="-26856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ufficient: gives a clear picture of the project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25600" indent="-26856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ppropriate: provides necessary information to understand insights and conclusion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25600" indent="-26856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Vivid: reader can picture what occurred; tells a story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iterature Review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search is synthesiz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Discussion and thoughtful reflection of the literature as related to the action research project is articulat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ources are appropriat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blem Formul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9920" indent="-2599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search question is: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31360" indent="-271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ignificant: focuses on teaching and learning practice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31360" indent="-271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Manageable: do-able within time constraints; not too broad or narrow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31360" indent="-271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learly Stated: the question accurately conveys the focus and scope of work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Data Collec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ources are appropriate and connected to research question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Instruments are described in text and provided in an appendix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lear triangulation – data are collected from a variety of complementary instruments that provide multiple perspective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Data Analysi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09120" y="2057040"/>
            <a:ext cx="78742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Analysis is reflective and insightful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Interpretation includes all the data sources and is clearly supported by the data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Findings are organized around the research question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Patterns and themes are identified and related to the research question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Quotes and details are appropriately and adequately discussed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ction Pla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Logical plan for follow up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ctions are clearly describ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ctions are a direct result from the research finding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nother scenario to research? Follow up or new ideas?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Possible supports or impediment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l Reflec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Thoughtful reflection of the action research process is provid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0:41:29Z</dcterms:created>
  <dc:creator>MFarrior</dc:creator>
  <dc:description/>
  <dc:language>en-US</dc:language>
  <cp:lastModifiedBy>Windows User</cp:lastModifiedBy>
  <dcterms:modified xsi:type="dcterms:W3CDTF">2012-01-30T19:06:32Z</dcterms:modified>
  <cp:revision>32</cp:revision>
  <dc:subject/>
  <dc:title>Action Research  February 8, 2011</dc:title>
</cp:coreProperties>
</file>